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.gif" ContentType="image/gif"/>
  <Override PartName="/ppt/media/image15.png" ContentType="image/png"/>
  <Override PartName="/ppt/media/image10.gif" ContentType="image/gif"/>
  <Override PartName="/ppt/media/image9.png" ContentType="image/png"/>
  <Override PartName="/ppt/media/image6.gif" ContentType="image/gif"/>
  <Override PartName="/ppt/media/camera.wav" ContentType="audio/x-wav"/>
  <Override PartName="/ppt/media/image8.gif" ContentType="image/gi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3.gif" ContentType="image/gif"/>
  <Override PartName="/ppt/media/image16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png" ContentType="image/png"/>
  <Override PartName="/ppt/media/image11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593A-3562-4BFE-9CE9-EFF08B7208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79C-F9D7-46E4-A914-01FC0402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C0B-BDDB-485A-8C55-B83DDD6D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4F8-28BE-4882-9F04-221197FC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DB0-D84C-434D-A529-6916A4AF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F5E-2EB8-441F-807C-7D080F13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689-9A29-44AE-BBDA-2221268D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99F-6558-4553-9804-2840F372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E46-311D-46FB-92BB-77D8E118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1C8-E0B1-45F2-8DC1-6274E7BF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326-6FAB-403E-BE1A-11B110F0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B02-72CC-4358-BF42-3EB4117B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F97-C240-437C-B9B0-CC4345D9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6FDD-7A09-4B89-B47F-E105F21AC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1920" y="6593040"/>
            <a:ext cx="20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8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2895480" y="152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C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7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36"/>
          <p:cNvGraphicFramePr/>
          <p:nvPr/>
        </p:nvGraphicFramePr>
        <p:xfrm>
          <a:off x="990720" y="838080"/>
          <a:ext cx="6400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6400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37"/>
          <p:cNvSpPr/>
          <p:nvPr/>
        </p:nvSpPr>
        <p:spPr>
          <a:xfrm>
            <a:off x="914400" y="914400"/>
            <a:ext cx="4343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e</a:t>
            </a:r>
            <a:r>
              <a:rPr b="0" lang="en-US" sz="18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is a three dimensional solid with a circular base and a curved surface that gradually narrows to a verte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914400" y="4038480"/>
            <a:ext cx="3657600" cy="132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olume of a 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3"/>
          <p:cNvGraphicFramePr/>
          <p:nvPr/>
        </p:nvGraphicFramePr>
        <p:xfrm>
          <a:off x="990720" y="5562720"/>
          <a:ext cx="15620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562720"/>
                    <a:ext cx="1562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54"/>
          <p:cNvGraphicFramePr/>
          <p:nvPr/>
        </p:nvGraphicFramePr>
        <p:xfrm>
          <a:off x="1219320" y="4419720"/>
          <a:ext cx="306684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5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19720"/>
                    <a:ext cx="30668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56"/>
          <p:cNvGraphicFramePr/>
          <p:nvPr/>
        </p:nvGraphicFramePr>
        <p:xfrm>
          <a:off x="838080" y="2590920"/>
          <a:ext cx="9334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57"/>
          <p:cNvGraphicFramePr/>
          <p:nvPr/>
        </p:nvGraphicFramePr>
        <p:xfrm>
          <a:off x="2133720" y="2590920"/>
          <a:ext cx="933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58"/>
          <p:cNvGraphicFramePr/>
          <p:nvPr/>
        </p:nvGraphicFramePr>
        <p:xfrm>
          <a:off x="3505320" y="2590920"/>
          <a:ext cx="933480" cy="10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5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9"/>
          <p:cNvGraphicFramePr/>
          <p:nvPr/>
        </p:nvGraphicFramePr>
        <p:xfrm>
          <a:off x="5257800" y="2590920"/>
          <a:ext cx="990720" cy="1104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" name="Object 5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2590920"/>
                    <a:ext cx="9907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60"/>
          <p:cNvSpPr/>
          <p:nvPr/>
        </p:nvSpPr>
        <p:spPr>
          <a:xfrm>
            <a:off x="17524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31240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4"/>
          <p:cNvSpPr/>
          <p:nvPr/>
        </p:nvSpPr>
        <p:spPr>
          <a:xfrm>
            <a:off x="464832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5" descr="board"/>
          <p:cNvPicPr/>
          <p:nvPr/>
        </p:nvPicPr>
        <p:blipFill>
          <a:blip r:embed="rId15"/>
          <a:stretch/>
        </p:blipFill>
        <p:spPr>
          <a:xfrm>
            <a:off x="6629400" y="4038480"/>
            <a:ext cx="14968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1026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1029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1030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31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32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34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35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36"/>
          <p:cNvSpPr/>
          <p:nvPr/>
        </p:nvSpPr>
        <p:spPr>
          <a:xfrm>
            <a:off x="4572000" y="1447920"/>
            <a:ext cx="4419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face Area of the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5(26.7)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3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9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600200" y="1905120"/>
            <a:ext cx="533412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Challenging Ques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P. 421 - 422    # 6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8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9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676520" y="19051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nd the volume of a cylinder with a radius r=1 m and height h=2 m. Find the volume of a cone with a radius r=1 m and height h=1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80880" y="3581280"/>
            <a:ext cx="3657600" cy="230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ylinder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base x height             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6.28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3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4"/>
          <p:cNvSpPr/>
          <p:nvPr/>
        </p:nvSpPr>
        <p:spPr>
          <a:xfrm>
            <a:off x="3352680" y="76212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ercise #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5"/>
          <p:cNvGraphicFramePr/>
          <p:nvPr/>
        </p:nvGraphicFramePr>
        <p:xfrm>
          <a:off x="457200" y="1905120"/>
          <a:ext cx="9334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17"/>
          <p:cNvSpPr/>
          <p:nvPr/>
        </p:nvSpPr>
        <p:spPr>
          <a:xfrm>
            <a:off x="4952880" y="3581280"/>
            <a:ext cx="3657600" cy="285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one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(1/3)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1/3)(3.14)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.09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0" descr="christmas_snow_globe_2"/>
          <p:cNvPicPr/>
          <p:nvPr/>
        </p:nvPicPr>
        <p:blipFill>
          <a:blip r:embed="rId5"/>
          <a:stretch/>
        </p:blipFill>
        <p:spPr>
          <a:xfrm>
            <a:off x="7543800" y="380880"/>
            <a:ext cx="11430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057400" y="15238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ind the area of a cone with a radius r=3 m and height h=4 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7200" y="3733920"/>
            <a:ext cx="3048120" cy="445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the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Pythagorean  Theorem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find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l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= 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h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(4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5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905120" y="152280"/>
          <a:ext cx="55432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280"/>
                    <a:ext cx="55432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7"/>
          <p:cNvSpPr/>
          <p:nvPr/>
        </p:nvSpPr>
        <p:spPr>
          <a:xfrm>
            <a:off x="3733920" y="30492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urface Area of a C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410080" y="3733920"/>
            <a:ext cx="3581640" cy="2926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Surface Area of a Con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3.14(3)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75.36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11"/>
          <p:cNvGraphicFramePr/>
          <p:nvPr/>
        </p:nvGraphicFramePr>
        <p:xfrm>
          <a:off x="304920" y="1523880"/>
          <a:ext cx="177156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177156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3"/>
          <p:cNvSpPr/>
          <p:nvPr/>
        </p:nvSpPr>
        <p:spPr>
          <a:xfrm>
            <a:off x="2057400" y="2590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 = the radius       h = the height       </a:t>
            </a:r>
            <a:r>
              <a:rPr b="0" i="1" lang="en-US" sz="2000" spc="-1" strike="noStrike">
                <a:solidFill>
                  <a:srgbClr val="0099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= the slant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5" descr="mickey2"/>
          <p:cNvPicPr/>
          <p:nvPr/>
        </p:nvPicPr>
        <p:blipFill>
          <a:blip r:embed="rId5"/>
          <a:stretch/>
        </p:blipFill>
        <p:spPr>
          <a:xfrm>
            <a:off x="3886200" y="3886200"/>
            <a:ext cx="1360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1600200" y="2057400"/>
            <a:ext cx="533412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, 3b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bcd, 3, 4c, 5ab, 10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9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1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2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3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600200" y="1981080"/>
            <a:ext cx="60199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yram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three dimensional figure with a regular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polygon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 as its b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lateral faces are identical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isosceles tri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eting at a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9"/>
          <p:cNvSpPr/>
          <p:nvPr/>
        </p:nvSpPr>
        <p:spPr>
          <a:xfrm>
            <a:off x="3657600" y="762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18"/>
          <p:cNvGraphicFramePr/>
          <p:nvPr/>
        </p:nvGraphicFramePr>
        <p:xfrm>
          <a:off x="380880" y="4038480"/>
          <a:ext cx="2067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038480"/>
                    <a:ext cx="206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9"/>
          <p:cNvGraphicFramePr/>
          <p:nvPr/>
        </p:nvGraphicFramePr>
        <p:xfrm>
          <a:off x="3733920" y="4038480"/>
          <a:ext cx="191448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038480"/>
                    <a:ext cx="19144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0"/>
          <p:cNvGraphicFramePr/>
          <p:nvPr/>
        </p:nvGraphicFramePr>
        <p:xfrm>
          <a:off x="6629400" y="4038480"/>
          <a:ext cx="1409760" cy="200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4038480"/>
                    <a:ext cx="140976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21"/>
          <p:cNvSpPr/>
          <p:nvPr/>
        </p:nvSpPr>
        <p:spPr>
          <a:xfrm>
            <a:off x="838080" y="3276720"/>
            <a:ext cx="1981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04920" y="61722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ase = 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733920" y="6248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base = pen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6172200" y="6172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base = hep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5"/>
          <p:cNvSpPr/>
          <p:nvPr/>
        </p:nvSpPr>
        <p:spPr>
          <a:xfrm>
            <a:off x="1712880" y="4233960"/>
            <a:ext cx="844560" cy="577800"/>
          </a:xfrm>
          <a:custGeom>
            <a:avLst/>
            <a:gdLst/>
            <a:ahLst/>
            <a:rect l="l" t="t" r="r" b="b"/>
            <a:pathLst>
              <a:path w="532" h="364">
                <a:moveTo>
                  <a:pt x="532" y="0"/>
                </a:moveTo>
                <a:lnTo>
                  <a:pt x="0" y="364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6"/>
          <p:cNvSpPr/>
          <p:nvPr/>
        </p:nvSpPr>
        <p:spPr>
          <a:xfrm>
            <a:off x="1447920" y="4243320"/>
            <a:ext cx="1109520" cy="1119240"/>
          </a:xfrm>
          <a:custGeom>
            <a:avLst/>
            <a:gdLst/>
            <a:ahLst/>
            <a:rect l="l" t="t" r="r" b="b"/>
            <a:pathLst>
              <a:path w="699" h="705">
                <a:moveTo>
                  <a:pt x="699" y="0"/>
                </a:moveTo>
                <a:lnTo>
                  <a:pt x="0" y="705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1600200" y="35053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dentical isosceles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00200" y="1828800"/>
            <a:ext cx="5334120" cy="1620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rea of the base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 = 1/3 x Volume of a Pr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9"/>
          <p:cNvSpPr/>
          <p:nvPr/>
        </p:nvSpPr>
        <p:spPr>
          <a:xfrm>
            <a:off x="2895480" y="762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18"/>
          <p:cNvGraphicFramePr/>
          <p:nvPr/>
        </p:nvGraphicFramePr>
        <p:xfrm>
          <a:off x="609480" y="4038480"/>
          <a:ext cx="120024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20024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9"/>
          <p:cNvGraphicFramePr/>
          <p:nvPr/>
        </p:nvGraphicFramePr>
        <p:xfrm>
          <a:off x="2362320" y="4114800"/>
          <a:ext cx="119988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0"/>
          <p:cNvGraphicFramePr/>
          <p:nvPr/>
        </p:nvGraphicFramePr>
        <p:xfrm>
          <a:off x="4191120" y="4114800"/>
          <a:ext cx="1199880" cy="15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6400800" y="3962520"/>
          <a:ext cx="1104840" cy="162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962520"/>
                    <a:ext cx="11048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2"/>
          <p:cNvSpPr/>
          <p:nvPr/>
        </p:nvSpPr>
        <p:spPr>
          <a:xfrm>
            <a:off x="1828800" y="4572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3581280" y="4572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5638680" y="4495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57200" y="1600200"/>
            <a:ext cx="41911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volume of the pyramid.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267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ba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6"/>
          <p:cNvGraphicFramePr/>
          <p:nvPr/>
        </p:nvGraphicFramePr>
        <p:xfrm>
          <a:off x="1600200" y="152280"/>
          <a:ext cx="55436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7"/>
          <p:cNvSpPr/>
          <p:nvPr/>
        </p:nvSpPr>
        <p:spPr>
          <a:xfrm>
            <a:off x="3124080" y="609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ercise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1"/>
          <p:cNvSpPr/>
          <p:nvPr/>
        </p:nvSpPr>
        <p:spPr>
          <a:xfrm>
            <a:off x="22860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81952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67080" y="320040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olume = 1/3 (area of base)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267080" y="3657600"/>
            <a:ext cx="4496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/3 ( 60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(8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267080" y="5181480"/>
            <a:ext cx="3962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9" descr="snowman_e0"/>
          <p:cNvPicPr/>
          <p:nvPr/>
        </p:nvPicPr>
        <p:blipFill>
          <a:blip r:embed="rId5"/>
          <a:stretch/>
        </p:blipFill>
        <p:spPr>
          <a:xfrm>
            <a:off x="7391520" y="182880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4648320" y="1523880"/>
            <a:ext cx="3657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urface Are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area of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+ 5 (area of one lateral 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5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14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648320" y="39625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pentagon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648320" y="32767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is the b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4724280" y="4343400"/>
            <a:ext cx="373392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3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4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48320" y="1981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triangle                   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base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572000" y="14479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are the lateral sid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572000" y="4876920"/>
            <a:ext cx="3733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l 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=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+ 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8.9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724280" y="38862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Attention!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the height of the triangle is the slant height ”</a:t>
            </a:r>
            <a:r>
              <a:rPr b="0" i="1" lang="en-US" sz="2000" spc="-1" strike="noStrike">
                <a:solidFill>
                  <a:srgbClr val="3333ff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4648320" y="2895480"/>
            <a:ext cx="30477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6)(8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26.7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2:24:25Z</dcterms:created>
  <dc:creator>Angela Treap</dc:creator>
  <dc:description/>
  <dc:language>en-US</dc:language>
  <cp:lastModifiedBy>RomaK</cp:lastModifiedBy>
  <dcterms:modified xsi:type="dcterms:W3CDTF">2015-09-04T07:39:12Z</dcterms:modified>
  <cp:revision>4</cp:revision>
  <dc:subject/>
  <dc:title>PowerPoint Presentation</dc:title>
</cp:coreProperties>
</file>